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F27-20EC-4375-86C7-7DDE1DF5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94F-55A8-44A7-BFC1-94BA6B1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DF5-9EE9-41C8-88C3-9F521F1E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6F2-2555-4DE1-B8EC-E066E1DA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8ED-8E6F-40C6-8F63-3CF03A1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527-F345-4F7D-9947-110D7D0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8F76-68FB-4CCE-8D62-E540EF6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D25-E235-4129-A3A0-83E3BD5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5829-5742-4B9F-BDF6-DF0E6AA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9C4B-72EC-42D0-B15F-A7771D4E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DFF-32C0-4E17-AC1C-D1B1251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BB0-2468-4D2F-98D8-4580C112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B52-61C8-4A6E-B494-BFE6AE9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3FD-7812-4B7D-9E91-F4C1853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7D57-28FF-4892-AAD0-9524C77E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CF9-EC88-4CA2-8F87-B406C371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D362-4674-4DB7-96E1-1A555F14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7B5-4D4F-4FC3-AEC9-B0E8150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D7A-CBF7-4219-8161-39575A9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529-0BC9-4246-A7D4-394B48D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323-1D88-4A55-ABA8-A8CA2FE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CCC-9E1C-4909-A64E-329A97B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309-B684-49E2-85B2-DE4FAEC7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4E0-6B60-45B1-A5D2-3C0FB35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848-E09A-4D18-8409-69B058626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3FAC-5236-4349-B62B-97C5E4F14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8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 de învăţare pentru clasa a X-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nul şcolar 2010-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ştii după această unitate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um putem explica nevoia oamenilor de a se exprima in versuri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merită să studiem poez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înţelegem o poe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vorbim despre o poe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 este o poezie mode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re sunt elementele care compun o poez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re este drumul de la cuvinte la sensul poeziei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învăţ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ihai Eminescu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Luceafăr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George Bacovia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Plouă…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ucian Blaga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Eu nu strivesc corola de minuni a lum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udor Arghez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Flori de mucig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Ion Barbu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iga Crypto şi lapona Enig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ichita Stănescu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Leoaică tânără, iubir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realiz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Un proiect de cercetare a unui au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te biografice sum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date bibliografice esenţi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egerea unui poem al autorului şi citarea acestu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aplicarea fişelor de lectură pe t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interpretarea textului conform grilei de interpret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reflecţii personale legate de text şi de cercet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Eseu argumentativ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test de evaluare fin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um vom lucr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Pentru realizarea proiectului de au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avem la dispoziţie trei săptămâni de luc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ainte de proi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niţial se studiază o poezie în clas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plică fişe de lectură pe poezia studiat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realizează în clasă eseul argument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timpul proiectu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lege un text al autorului studi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plică fişele de lectură alcătuite de către profe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interpretează textul conform fişelor de lectur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realizează o prezentare power point a proiectului de cercet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um vom fi evaluaţi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Testul iniţi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uprinde un jurnal de lectură a poeziei, în care contează cunoştinţele anterioare referitoare la poezie şi impresiile personale în interpre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e vor primi calificative de la excelent la insu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Proiectul de au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vor completa fişele de lectură care se vor prezenta profesorului la termenele stabilite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va realiza o prezentare power point care va fi prezentată în faţa clasei la sfârşitul studiului autorului (termenul de lucru este de 3 săptămâni). Se va primi un punct din oficiu, 5 puncte pentru conţinut şi 4 puncte pentru prezent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Eseul argumentati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la evaluarea finală se va realiza un eseu argumentativ pe unul dintre autorii studiaţi. Vor fi patru repere de analiză. Se vor acorda: 1 punct din oficiu, 5 puncte pentru conţinut şi 4 puncte pentru redact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33cc"/>
                </a:solidFill>
                <a:latin typeface="Arial"/>
              </a:rPr>
              <a:t>Mult succes, spor la treabă şi drag de poez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9:33:34Z</dcterms:created>
  <dc:creator>Cursant18</dc:creator>
  <dc:description/>
  <dc:language>en-US</dc:language>
  <cp:lastModifiedBy>Albert Hajnalka</cp:lastModifiedBy>
  <dcterms:modified xsi:type="dcterms:W3CDTF">2010-09-06T12:02:02Z</dcterms:modified>
  <cp:revision>3</cp:revision>
  <dc:subject/>
  <dc:title>Pe aripi de poezie</dc:title>
</cp:coreProperties>
</file>